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7.png" ContentType="image/png"/>
  <Override PartName="/ppt/media/image4.png" ContentType="image/png"/>
  <Override PartName="/ppt/media/image3.wmf" ContentType="image/x-wmf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1B07-3574-4803-8BD5-71FCC076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A38D-07BF-4CE2-BD4A-9BE3A6B2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7ECC-08EF-4A8F-BC39-4E5ED752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0F6-C405-4795-86BD-1893AB09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CD22-5C5D-483F-83D4-B903C51F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31DE-64DE-4E6A-A975-B0A1C35A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89543-9411-4F60-ABF4-7DF0324BF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2320-DE03-46EB-962E-9488EE54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DBAE-083D-4392-A1ED-FE831601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7BE8-CF84-4064-A26F-3E39A8A1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5FC8-4173-40C7-9087-8ECCE294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EE9-17D4-416A-9F89-25783D1A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E88D-D47D-4181-BF0A-1BCB292F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E8F4B-4CAD-4AD6-87C3-B6978A39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2D66-CB11-4B4E-915D-E9C10736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3BDC-EF8F-478E-A622-BD273AEC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34CD-E74B-4CE6-A775-57B8CF25C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CCC-450D-4492-8ED6-B60EA8E5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C2A5-937A-43FE-B67D-340A4076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F791-3654-40C4-A359-09DA642A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CEB-3067-416B-A318-064E7F03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3A31-C0D4-49E3-8C30-535FA587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D9A-6A3D-4A77-A26B-16C67CD4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D4FB-49A1-475B-96FA-BD94FDC4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C0D8-1BA0-4CD8-8795-00D95F4EF38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4B4B-7A26-4741-B062-1AFF0E891318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szholop@vati.hu" TargetMode="External"/><Relationship Id="rId2" Type="http://schemas.openxmlformats.org/officeDocument/2006/relationships/hyperlink" Target="http://www.hu-sk.cbc.eu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 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harmadik kiírás online felületéne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64304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– 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 – 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iválasztás után megjelenik a PARTNERSHIP képernyő, amely három fület tartalmaz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ás (Identific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pviselők (Representativ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Üzleti adatok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 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2"/>
          <a:stretch/>
        </p:blipFill>
        <p:spPr>
          <a:xfrm>
            <a:off x="642960" y="250020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zövegdoboz 7"/>
          <p:cNvSpPr/>
          <p:nvPr/>
        </p:nvSpPr>
        <p:spPr>
          <a:xfrm>
            <a:off x="6357960" y="1643040"/>
            <a:ext cx="2643120" cy="35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zövegdoboz 5"/>
          <p:cNvSpPr/>
          <p:nvPr/>
        </p:nvSpPr>
        <p:spPr>
          <a:xfrm>
            <a:off x="71280" y="1181160"/>
            <a:ext cx="692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PARTNERSHIP\Represent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6500880" y="16034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ARTNERSHIP\Business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zövegdoboz 7"/>
          <p:cNvSpPr/>
          <p:nvPr/>
        </p:nvSpPr>
        <p:spPr>
          <a:xfrm>
            <a:off x="6000840" y="1285920"/>
            <a:ext cx="30002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/Project management experience of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(utolsó lezárt üzleti é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(helyszíne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zövegdoboz 7"/>
          <p:cNvSpPr/>
          <p:nvPr/>
        </p:nvSpPr>
        <p:spPr>
          <a:xfrm>
            <a:off x="5929200" y="1643040"/>
            <a:ext cx="30006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MÓD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Value (érték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escription (leírás)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5715000" y="1643040"/>
            <a:ext cx="32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214200" y="1714680"/>
            <a:ext cx="5372280" cy="2233440"/>
          </a:xfrm>
          <a:prstGeom prst="rect">
            <a:avLst/>
          </a:prstGeom>
          <a:ln w="0">
            <a:noFill/>
          </a:ln>
        </p:spPr>
      </p:pic>
      <p:pic>
        <p:nvPicPr>
          <p:cNvPr id="125" name="Szövegdoboz 6" descr=""/>
          <p:cNvPicPr/>
          <p:nvPr/>
        </p:nvPicPr>
        <p:blipFill>
          <a:blip r:embed="rId2"/>
          <a:stretch/>
        </p:blipFill>
        <p:spPr>
          <a:xfrm>
            <a:off x="133200" y="4206960"/>
            <a:ext cx="8913960" cy="16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142920" y="292896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29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eleváns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várható költsé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zövegdoboz 10"/>
          <p:cNvSpPr/>
          <p:nvPr/>
        </p:nvSpPr>
        <p:spPr>
          <a:xfrm>
            <a:off x="6286680" y="142920"/>
            <a:ext cx="2714400" cy="56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első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lsó rész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- partner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3 költségvetési fü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Source of co-financing of selected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észletes partneri költségvetési tábláza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Detailed partner budget t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teljes előrejelzése periódusonként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otal spending forecast for selected partner per period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5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zövegdoboz 5"/>
          <p:cNvSpPr/>
          <p:nvPr/>
        </p:nvSpPr>
        <p:spPr>
          <a:xfrm>
            <a:off x="71280" y="1181160"/>
            <a:ext cx="5286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zövegdoboz 10"/>
          <p:cNvSpPr/>
          <p:nvPr/>
        </p:nvSpPr>
        <p:spPr>
          <a:xfrm>
            <a:off x="6286680" y="164304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ternal servic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4) 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ipment cost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3071880" cy="2068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"/>
          <p:cNvPicPr/>
          <p:nvPr/>
        </p:nvPicPr>
        <p:blipFill>
          <a:blip r:embed="rId3"/>
          <a:stretch/>
        </p:blipFill>
        <p:spPr>
          <a:xfrm>
            <a:off x="1214280" y="4143240"/>
            <a:ext cx="4929480" cy="205740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magánjogi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1"/>
          <a:stretch/>
        </p:blipFill>
        <p:spPr>
          <a:xfrm>
            <a:off x="120600" y="1673280"/>
            <a:ext cx="616428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Application (pályázati) mod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harmadik kiírás pályázatait az IMIR Front Office Application moduljának segítségével kell összeállítani és benyújtan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Papír alapon csak - az eredeti aláírásokkal ellátott – függelék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űrlapot nem szükséges kinyomtatni, továbbá az elektronikus formában elérhető függelékek és egyéb támogató dokumentumok példányai is feltölthetőek a Front Office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A pályázati modul elérhető a honlapunkon a pályázati kiírás oldalán: </a:t>
            </a:r>
            <a:r>
              <a:rPr b="0" lang="sk-SK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zövegdoboz 10"/>
          <p:cNvSpPr/>
          <p:nvPr/>
        </p:nvSpPr>
        <p:spPr>
          <a:xfrm>
            <a:off x="6286680" y="135720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e feledje, hogy a programban a visszafizetés hosszú, kétszintű folyamat, vagyis 4-5 hónap is eltelhet a kifizetett számlák benyújtásától az ellenőrző testületeknek addig, míg az ERFA támogatás összege kifizetésre kerü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10704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zövegdoboz 5"/>
          <p:cNvSpPr/>
          <p:nvPr/>
        </p:nvSpPr>
        <p:spPr>
          <a:xfrm>
            <a:off x="71280" y="118116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zövegdoboz 10"/>
          <p:cNvSpPr/>
          <p:nvPr/>
        </p:nvSpPr>
        <p:spPr>
          <a:xfrm>
            <a:off x="6286680" y="1214280"/>
            <a:ext cx="271440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áblázat a program által meghatározott mutatókat jeleníti meg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odify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 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ther tools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3197160" cy="3214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"/>
          <p:cNvPicPr/>
          <p:nvPr/>
        </p:nvPicPr>
        <p:blipFill>
          <a:blip r:embed="rId2"/>
          <a:stretch/>
        </p:blipFill>
        <p:spPr>
          <a:xfrm>
            <a:off x="3000240" y="3429000"/>
            <a:ext cx="56437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PERMI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 (Typ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 (Description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 (Issue dat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 (Valid until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 (ID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65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CHECKLI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SHEETS TO FILL IN\ANNE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zövegdoboz 10"/>
          <p:cNvSpPr/>
          <p:nvPr/>
        </p:nvSpPr>
        <p:spPr>
          <a:xfrm>
            <a:off x="6215040" y="1643040"/>
            <a:ext cx="27860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áma (Code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és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íme (Name),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hogy kötelező-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Mandator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vagy sem, és hogy milyen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satornán (Channel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keresztül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gjelölheti, hogy egy adott mellékletet csatolt/elküldött-e, és ha igen, hány példány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TTACH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zövegdoboz 10"/>
          <p:cNvSpPr/>
          <p:nvPr/>
        </p:nvSpPr>
        <p:spPr>
          <a:xfrm>
            <a:off x="5429160" y="1214280"/>
            <a:ext cx="35719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ttachment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142920" y="1611360"/>
            <a:ext cx="5143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Köszönöm a figyelm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e 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-sk.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4608720" cy="1714320"/>
          </a:xfrm>
          <a:prstGeom prst="rect">
            <a:avLst/>
          </a:prstGeom>
          <a:ln w="0">
            <a:noFill/>
          </a:ln>
        </p:spPr>
      </p:pic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"/>
          <p:cNvPicPr/>
          <p:nvPr/>
        </p:nvPicPr>
        <p:blipFill>
          <a:blip r:embed="rId2"/>
          <a:srcRect l="31169" t="41029" r="31278" b="40959"/>
          <a:stretch/>
        </p:blipFill>
        <p:spPr>
          <a:xfrm>
            <a:off x="214200" y="428616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90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de megjegyezhető 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mentésre kerül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zövegdoboz 7"/>
          <p:cNvSpPr/>
          <p:nvPr/>
        </p:nvSpPr>
        <p:spPr>
          <a:xfrm>
            <a:off x="5429160" y="1643040"/>
            <a:ext cx="357192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UBMIT – az ellenőrzött és megfelelően kitöltött pályázato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zövegdoboz 7"/>
          <p:cNvSpPr/>
          <p:nvPr/>
        </p:nvSpPr>
        <p:spPr>
          <a:xfrm>
            <a:off x="5429160" y="1643040"/>
            <a:ext cx="357192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VERVIEW – 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HEETS TO FILL IN – leírhatja és részletezheti a tervezett projektet. A táblázat soraihoz úgynevezett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TTACHMETS – dokumentumok feltöltésére és létrehozására szolgá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zövegdoboz 7"/>
          <p:cNvSpPr/>
          <p:nvPr/>
        </p:nvSpPr>
        <p:spPr>
          <a:xfrm>
            <a:off x="5429160" y="1643040"/>
            <a:ext cx="35719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(Megnéz) - 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– az adatok szerkesztését vagy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zövegdoboz 7"/>
          <p:cNvSpPr/>
          <p:nvPr/>
        </p:nvSpPr>
        <p:spPr>
          <a:xfrm>
            <a:off x="5429160" y="1643040"/>
            <a:ext cx="357192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- kifejező, de röv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- &gt;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 – 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 – 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1-25T18:45:50Z</dcterms:modified>
  <cp:revision>30</cp:revision>
  <dc:subject/>
  <dc:title>1. dia</dc:title>
</cp:coreProperties>
</file>